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1FD-F0D0-4665-B153-F112402D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78F-B9FE-42D6-B075-D29571B4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0E0-5115-4883-AF07-3961FC45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8FC-14BE-40DD-95B4-B403BBE5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E2D-3B9A-415E-A4E9-7BC14479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DED-FF74-441C-ADE9-558178A1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B44C-AC2A-4340-908A-B80DF758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BBD5-7774-40E1-AF16-301FD7C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803-85FC-42BD-9D0D-69FEC9D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51C-5E05-40FE-A3FD-BCE4B6E8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B48-A743-4CB1-A61E-78B7DC82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F454-050B-4FCA-B1D4-A4C8AF47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0DDD-5912-4420-9243-F4B4345D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adley Hand ITC"/>
              </a:rPr>
              <a:t>The Himalaya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By:  Ms. Rus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ANCIENT INDIA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by Kruffy"/>
              </a:rPr>
              <a:t>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im2"/>
          <p:cNvPicPr/>
          <p:nvPr/>
        </p:nvPicPr>
        <p:blipFill>
          <a:blip r:embed="rId2"/>
          <a:stretch/>
        </p:blipFill>
        <p:spPr>
          <a:xfrm>
            <a:off x="380880" y="1752480"/>
            <a:ext cx="2505240" cy="160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himalayas"/>
          <p:cNvPicPr/>
          <p:nvPr/>
        </p:nvPicPr>
        <p:blipFill>
          <a:blip r:embed="rId3"/>
          <a:stretch/>
        </p:blipFill>
        <p:spPr>
          <a:xfrm>
            <a:off x="2133720" y="3863880"/>
            <a:ext cx="243828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1"/>
          <p:cNvSpPr/>
          <p:nvPr/>
        </p:nvSpPr>
        <p:spPr>
          <a:xfrm>
            <a:off x="5410080" y="1905120"/>
            <a:ext cx="3353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8:00:19Z</dcterms:created>
  <dc:creator>MCPS</dc:creator>
  <dc:description/>
  <dc:language>en-US</dc:language>
  <cp:lastModifiedBy>cmrussell</cp:lastModifiedBy>
  <dcterms:modified xsi:type="dcterms:W3CDTF">2012-02-09T15:12:06Z</dcterms:modified>
  <cp:revision>6</cp:revision>
  <dc:subject/>
  <dc:title>Slide 1</dc:title>
</cp:coreProperties>
</file>